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09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9A466-1B9C-4768-9AE6-19596DE8B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E27DC-AE2B-40AC-B02E-D31CF193C4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A9B53-87C1-4D78-AA12-53AFA5A79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F5D9F-DF2B-43B2-B743-502B790740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85DF1-B564-442A-B310-398358B8F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3C3CE-A1C9-4955-ADF6-EF9D248FC8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M 6 – Fail Safe Strate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C9405-74EC-459A-B19E-E95B14CC2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06926-EE56-44E7-B9F1-B3BD9B2F7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ACEE9-0221-45BC-9C65-C7AC64355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2D2D2-1CEE-4084-8FB5-056D72FCF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E2640-6485-40CB-A24C-4A71C68EB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E2B47-C65D-487D-BC10-E297AB4FA5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1B8C4-4040-4C12-BFA3-834B1A71C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D0D16-4525-4D74-A838-449562C1BF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ADAD6-EF5D-4BEA-A24B-4A5157DC8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BL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7DEC4-93CF-49B8-B216-7C94B5AF9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A5B55-AC28-4168-A1BF-803F0C12E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3F73B-DA08-4364-8E4B-BCCC408EC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C8C82-CD4B-4B24-AEE1-AA61C13DB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1FDAB-1ABE-4DEC-B48B-46CF1CA11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7296D-25AF-4FE0-A128-4A8D9AB84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26A4B-F7A2-4AB7-B3BA-912AC71B28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CBB6B-DE6C-40C0-9A15-88DDCC63AC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D6353-6EB7-48B0-BA02-5022CBB49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M 1 – View and Discuss hand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M 1b – Four Corners signage (View and Discuss tit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C9D29-2E38-4BDC-89EA-C3E40B2A2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E176A-ED6F-45DF-BA79-23C9F262F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s do this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0CB52-1788-4AEF-8455-40A6DFBAB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s do this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5CD6B-61BE-4EDE-AFDE-6DA867032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econd question is rarely asked, but is impor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B612A-965A-4607-AEC0-5177F6225F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rd responses on chart paper, or create electronic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kids will not read carefully and say 2.90 and 4.60– so need to attend to decoding problems or checking that you meet all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kids will have difficulty with the actual calculations with these complex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kids will be very inefficient, e.g. start at 7.50, split it one step at a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kids will get one answer and think that there are no other answers because there is always one ans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45BA9-5402-4756-AAAE-2EF6124441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M2 – Brandon and Alexis Money Problem (Possible difficulty and alternate proble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E768F-3F86-4E3E-9FEE-A8BA867FA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6EA18-F56D-4A16-9E39-871B27452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FBEB1-86A8-419F-8E40-1B83D0A32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we did that with the PPQ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2D5E6-49AB-4E3A-9475-0FBCA982E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 some examples here, e.g. diagnostic, task; anticipation guide;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modeled use of prior assessment using Day 1 exit card; your feedback and questions informed today’s presentation (emphasis, focu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only touch on this today but it is important when you’re back in your classro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D32BC-20F7-4542-87B1-922F0C745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89559-D21C-4B4F-BF67-E867DB933C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 some examples here, e.g. diagnostic, task; anticipation guide;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modeled use of prior assessment using Day 1 exit card; your feedback and questions informed today’s presentation (emphasis, focu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only touch on this today but it is important when you’re back in your classro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18B93-0DDA-4CB5-A6BE-CFD82D1FB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 some examples here, e.g. diagnostic, task; anticipation guide;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modeled use of prior assessment using Day 1 exit card; your feedback and questions informed today’s presentation (emphasis, focu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only touch on this today but it is important when you’re back in your classro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572C9-8477-4641-8EF7-4DE2B1B85B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discuss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ED9A4-AC57-4664-88FD-3F2375E107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C3190-0476-4AA5-9759-DC52169AD1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A8E6C-3423-4AE4-AF32-F0FBB9628F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53C21-C601-4996-BF90-C892E36C0F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0F372-55B8-436B-B80F-ED027162E6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2EF24-82CB-4ABF-AE95-3C8608EDE7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EEC25-9976-4175-93B7-187B6EF305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7F918-ED9D-4A34-92F6-ED3102C8C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5DCBA-BB09-44CF-B587-AF739C4E7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C1A03-BD5D-4F5B-AD8C-B5424AD7F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30108-FA94-4B3E-B978-D38911529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530AF-6B9F-48D6-A822-F74D760168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6B615-3F4B-4188-BB03-86D414B18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BFDFF-A3BF-413C-AB9D-F0E0FE450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A1CB7-065D-4B27-B803-78772D269C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s should solve one of these before the common questions are sh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have used positive coordinates if I see this as a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FF6F3-BDC3-4D37-8566-8A8D7C55B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420B7-0BF9-486D-9D46-0BEBA130D2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0A805-B56C-43E6-991C-574B0B6F6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7A631-2917-4704-9ADC-9BEAC0490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le copies need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o groups – discuss at table; share out a couple of com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1F21A-8D8B-436B-A3C6-832040870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09B63-E553-48DF-B592-82012BB9C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 to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EDB72-37CE-4EAD-ABE6-F6BF26C01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DD3D3-77AD-4E4F-A747-5BE3C323B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66D5C-F0CF-4279-9FDC-54B7A7DBA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D3FA7-B425-48AD-8A8F-7982B4D95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38CBB-BEF0-4B9A-AB7A-E45BF7C985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FEBC9-717E-4CCF-96D2-C557C07D2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FC33D-DAEE-4EA3-A4DF-E3BACABA9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47903-BA39-4CA4-B56B-73C06B1E78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ice 1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+ (n +1) or 2n +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–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ice 2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(n+1) or 2n +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0-n)/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n + 2 + 1  or 3 (n+1) or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F9C80-DA77-4F27-8D87-83F755149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08343-B269-4375-AAC7-18887E791D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16A2B-50CB-4EA0-A7E0-835F20B79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6260A-99E8-4DA0-94A8-25323FC29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280A9-B3E3-4853-A23A-AFE4C4C9A1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27D6B-DB1A-4C87-A851-F16154AA60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045F0-B488-44DC-8C3C-61328C40D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how different but 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1AB90-5BE9-4819-BA53-35095D47A1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D7220-95F5-41A9-9082-03CAC9FAC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Virtual Tiles IWB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42D2E-C040-4CA6-B618-C393B8DED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51BE5-CFCF-43E2-B8FE-3C03F5D978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e BLM 3 (Parallel Task Samples You’ve Seen) and BLM 4 (Parallel Choices reformatted with common questions column blan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F265D-9E69-4EC9-A3EF-74BB8A409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le copies (from Day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at table; share out a couple of com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B14C5-505B-4EF8-ABC7-EE028DAC9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age needed here – Each option name per cor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682FB-C436-442F-A19C-75447B85B9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2D31B-D706-4465-830E-5ECF94176D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D9A5B-993B-4EAF-BDC8-E2C8E70E9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8F1E9-B0BB-45E8-B720-E9939D1E23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2B6E9-F5DC-40A2-B995-DB45092C1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be y = 4x – 4 or y =  4(x-2)^2 + 4 or y = 2x^3 -8x^2 +6x +8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E41F7-6DC6-4A7D-A537-36AD453B8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A2C77-F1DF-4ED6-82B0-3263217EBC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F5C17-BFF6-4189-92A6-D5E223035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D9966-6FD8-4303-858D-5B1720E78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66247-F41C-4E67-B25E-4E5095000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4B908-C0EC-4891-BF9E-DE2BD4864F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02F5A-0479-4D76-A98F-ADD3029E8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73216-62F9-4994-B70A-5F0E4F85B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4C7CC-32EA-4E29-8B75-38601CFBE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30321-3D7E-4252-BD54-B3891F803C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9A072-3B3B-4FFB-B5D5-E12A89FBA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re trying to see if students have met the goal; coherent whole (BI); meet the curriculum expectations; may be considered modification if considering parallel tasks in consoli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A419A-E526-4606-97F5-BA2ED1BD38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BI would be possible for examples; possible BI sugges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 examples from Minds-On, Action! And Consolidate/Debrief (2 from each) will appear in PPT; BLM 5 will include the other examp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D2901-A51E-4E82-9FAD-4330F0A92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don’t just ask the open question and walk away– you ask probing questions, just like we used common questions for parallel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0D7EB-B757-4AD6-BC69-8710FA458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them which big idea  (it’s BI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616F8-C47F-401B-9A6C-BDDF0B5E4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at tables and share a few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B6D30-00B9-4847-BF13-B9DA9EFCAE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they see that open activities benefit the weak and the str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9614E-419D-493C-9A45-5B62B0DDF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0F7C1-1493-45FA-B3D1-F9DDEB986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6C8AD-A148-4F9F-8A54-B43BFBBED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C5329-25F9-4F29-9EEF-7B8ADC699A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45EAD-CE68-4F34-82CF-39F12004B9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hem to know the difference between equations with single solutions and “identiti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8A28F-AF38-4E89-95F6-12D72E9633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C0D7D-2379-4881-BEC2-85C6AAB335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M 5 – Open Questions_Matching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860EF-137C-429A-9DB1-E1BB2DD98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5D35-DAFB-4791-BC98-631526BE1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A60C-1EB2-4CE4-8496-01732502C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927A-1DF1-4D04-8EAB-5D960570E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9DA3-2C50-4F10-AC3D-4A18D48E8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0B62-2997-4F52-A49E-DBB522911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462A-BBE2-492B-8B75-39411C430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ACC5-0FB0-4DAD-A09A-4B127ACD4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F502-E227-495E-8BC2-D0206DB5A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BC76-0833-410E-93FF-F85CACDA7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2292-67D8-40CB-AE43-CCB99E09E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3749-6B2F-47AA-B005-78EC64AA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0833-DDEA-4CE5-A3D3-13CA521C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49E5A-1E29-42A2-9085-841D39EA3A4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5" name="Picture 7" descr="Untitled-1"/>
          <p:cNvPicPr/>
          <p:nvPr/>
        </p:nvPicPr>
        <p:blipFill>
          <a:blip r:embed="rId2"/>
          <a:stretch/>
        </p:blipFill>
        <p:spPr>
          <a:xfrm>
            <a:off x="380880" y="380880"/>
            <a:ext cx="6853320" cy="1526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"/>
          <p:cNvPicPr/>
          <p:nvPr/>
        </p:nvPicPr>
        <p:blipFill>
          <a:blip r:embed="rId3"/>
          <a:stretch/>
        </p:blipFill>
        <p:spPr>
          <a:xfrm>
            <a:off x="6732720" y="77760"/>
            <a:ext cx="2293920" cy="83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1"/>
          <p:cNvSpPr/>
          <p:nvPr/>
        </p:nvSpPr>
        <p:spPr>
          <a:xfrm>
            <a:off x="304920" y="5638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Comic Sans MS"/>
              </a:rPr>
              <a:t>Day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GAINS_Globe_70smws"/>
          <p:cNvPicPr/>
          <p:nvPr/>
        </p:nvPicPr>
        <p:blipFill>
          <a:blip r:embed="rId1"/>
          <a:stretch/>
        </p:blipFill>
        <p:spPr>
          <a:xfrm>
            <a:off x="685800" y="838080"/>
            <a:ext cx="2637000" cy="49532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1"/>
          <p:cNvSpPr/>
          <p:nvPr/>
        </p:nvSpPr>
        <p:spPr>
          <a:xfrm>
            <a:off x="4572000" y="2897280"/>
            <a:ext cx="444492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Comic Sans MS"/>
              </a:rPr>
              <a:t>Professional Learning for Mathematics Leaders and Coaches—</a:t>
            </a:r>
            <a:r>
              <a:rPr b="0" i="1" lang="en-US" sz="3600" spc="-1" strike="noStrike">
                <a:solidFill>
                  <a:srgbClr val="0d469b"/>
                </a:solidFill>
                <a:latin typeface="Comic Sans MS"/>
              </a:rPr>
              <a:t>Not just a 3-part se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05EA7-D7A6-4F0C-AE1E-3E160AAEB70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468360" y="99072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Responding to Day 1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088A1-0EAF-4073-9519-BCE2D5149AA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1066680" y="2362320"/>
            <a:ext cx="7417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&lt;&lt;Each site should include appropriate responses from Exit card questions here&gt;&gt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 Box 3"/>
          <p:cNvSpPr/>
          <p:nvPr/>
        </p:nvSpPr>
        <p:spPr>
          <a:xfrm>
            <a:off x="884160" y="1895400"/>
            <a:ext cx="7813800" cy="46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ich open questions did you find most difficult to place?  Wh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similarities and/or differences did you observe between your choices and those of your colleagu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Matching 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FB651-C8C6-424B-A957-F364BC2CB9F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81" dur="indefinite" restart="never" nodeType="tmRoot">
          <p:childTnLst>
            <p:seq>
              <p:cTn id="1282" dur="indefinite" nodeType="mainSeq">
                <p:childTnLst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7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2" dur="5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3"/>
          <p:cNvSpPr/>
          <p:nvPr/>
        </p:nvSpPr>
        <p:spPr>
          <a:xfrm>
            <a:off x="1066680" y="2057400"/>
            <a:ext cx="73152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ften you can start from an existing lesson and open parts of it up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Starting from a sou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BFA60-8E5B-40FB-BECF-39214157EDF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9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3"/>
          <p:cNvSpPr/>
          <p:nvPr/>
        </p:nvSpPr>
        <p:spPr>
          <a:xfrm>
            <a:off x="1066680" y="2057400"/>
            <a:ext cx="7315200" cy="46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ne strategy is to start with an answer and create a question. For example, a  growing pattern has 20 as the 9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term. What could the pattern b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Fail-safe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87B8E-38A8-4CBD-B719-865E4AA2B5D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00" dur="indefinite" restart="never" nodeType="tmRoot">
          <p:childTnLst>
            <p:seq>
              <p:cTn id="1301" dur="indefinite" nodeType="mainSeq">
                <p:childTnLst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6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3"/>
          <p:cNvSpPr/>
          <p:nvPr/>
        </p:nvSpPr>
        <p:spPr>
          <a:xfrm>
            <a:off x="1066680" y="2057400"/>
            <a:ext cx="731520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other is to ask for similarities and differences. For example, how is factoring 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+5x+6 like and different from factoring 3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- 2x – 8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Fail-safe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31285-C825-4B8A-AA9F-EE72254AAAA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07" dur="indefinite" restart="never" nodeType="tmRoot">
          <p:childTnLst>
            <p:seq>
              <p:cTn id="1308" dur="indefinite" nodeType="mainSeq">
                <p:childTnLst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3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3"/>
          <p:cNvSpPr/>
          <p:nvPr/>
        </p:nvSpPr>
        <p:spPr>
          <a:xfrm>
            <a:off x="1066680" y="2057400"/>
            <a:ext cx="731520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other is to let the student choose values. For example, ask students to choose values for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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 graph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x +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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 = 8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Fail-safe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FB064-BE22-4B23-8422-500C6B2D2E8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14" dur="indefinite" restart="never" nodeType="tmRoot">
          <p:childTnLst>
            <p:seq>
              <p:cTn id="1315" dur="indefinite" nodeType="mainSeq">
                <p:childTnLst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0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 Box 3"/>
          <p:cNvSpPr/>
          <p:nvPr/>
        </p:nvSpPr>
        <p:spPr>
          <a:xfrm>
            <a:off x="1066680" y="2057400"/>
            <a:ext cx="731520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rom the other examples we have seen, you can see that these are not the only three strategies but they are helpfu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Other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1B771-D3F1-40AA-A89D-DC3D3B84BE7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21" dur="indefinite" restart="never" nodeType="tmRoot">
          <p:childTnLst>
            <p:seq>
              <p:cTn id="1322" dur="indefinite" nodeType="mainSeq">
                <p:childTnLst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7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3"/>
          <p:cNvSpPr/>
          <p:nvPr/>
        </p:nvSpPr>
        <p:spPr>
          <a:xfrm>
            <a:off x="1066680" y="2057400"/>
            <a:ext cx="73152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hoose one of the following tasks. Make it more op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Your tu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1E2B0-1B33-4C29-9900-D9D9C552C48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28" dur="indefinite" restart="never" nodeType="tmRoot">
          <p:childTnLst>
            <p:seq>
              <p:cTn id="1329" dur="indefinite" nodeType="mainSeq">
                <p:childTnLst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4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3"/>
          <p:cNvSpPr/>
          <p:nvPr/>
        </p:nvSpPr>
        <p:spPr>
          <a:xfrm>
            <a:off x="1066680" y="2057400"/>
            <a:ext cx="7315200" cy="49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ou have 14 $5-bills. How many toonies do you need to have $10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combination of $2 coins and $5 bills have a total value of $10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95EF0-C09D-4E7F-A457-F64CF543DF7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35" dur="indefinite" restart="never" nodeType="tmRoot">
          <p:childTnLst>
            <p:seq>
              <p:cTn id="1336" dur="indefinite" nodeType="mainSeq">
                <p:childTnLst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1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6" dur="5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3"/>
          <p:cNvSpPr/>
          <p:nvPr/>
        </p:nvSpPr>
        <p:spPr>
          <a:xfrm>
            <a:off x="1143000" y="2438280"/>
            <a:ext cx="73152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ink about why you might use an open question in each part of the lesson. Would your reasons be the sam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iscuss this in your grou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Consoli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84302-E5ED-4633-A040-0642EDE836A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47" dur="indefinite" restart="never" nodeType="tmRoot">
          <p:childTnLst>
            <p:seq>
              <p:cTn id="1348" dur="indefinite" nodeType="mainSeq">
                <p:childTnLst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3" dur="5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8" dur="50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3"/>
          <p:cNvSpPr/>
          <p:nvPr/>
        </p:nvSpPr>
        <p:spPr>
          <a:xfrm>
            <a:off x="1143000" y="2438280"/>
            <a:ext cx="7315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C3FA1-1C38-4971-8610-7D978314468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2"/>
          <p:cNvSpPr/>
          <p:nvPr/>
        </p:nvSpPr>
        <p:spPr>
          <a:xfrm>
            <a:off x="685800" y="6904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Co-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847800" y="1909800"/>
            <a:ext cx="761040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ork in board tea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 the resource(s) that you brought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just one or more parts of a lesson by incorporating an open question and/or parallel tas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 the PPQT to record your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59" dur="indefinite" restart="never" nodeType="tmRoot">
          <p:childTnLst>
            <p:seq>
              <p:cTn id="1360" dur="indefinite" nodeType="mainSeq">
                <p:childTnLst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5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0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5" dur="5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0" dur="500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5" dur="500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685800" y="99072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Questions from Day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1066680" y="2362320"/>
            <a:ext cx="7417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you have any other outstanding questions from Day 1, please post these on our parking lo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B15F9-2FF1-4A72-8873-0BCA6240BEB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 Box 3"/>
          <p:cNvSpPr/>
          <p:nvPr/>
        </p:nvSpPr>
        <p:spPr>
          <a:xfrm>
            <a:off x="1143000" y="2438280"/>
            <a:ext cx="7315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F435F-32F9-41D2-A868-77CE8753F4D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2"/>
          <p:cNvSpPr/>
          <p:nvPr/>
        </p:nvSpPr>
        <p:spPr>
          <a:xfrm>
            <a:off x="685800" y="6904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Breakou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3"/>
          <p:cNvSpPr/>
          <p:nvPr/>
        </p:nvSpPr>
        <p:spPr>
          <a:xfrm>
            <a:off x="847800" y="1909800"/>
            <a:ext cx="76104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/B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86" dur="indefinite" restart="never" nodeType="tmRoot">
          <p:childTnLst>
            <p:seq>
              <p:cTn id="1387" dur="indefinite" nodeType="mainSeq">
                <p:childTnLst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2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7" dur="5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2" dur="500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To Do” Between Session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404" name="Picture 4" descr=""/>
          <p:cNvPicPr/>
          <p:nvPr/>
        </p:nvPicPr>
        <p:blipFill>
          <a:blip r:embed="rId1"/>
          <a:stretch/>
        </p:blipFill>
        <p:spPr>
          <a:xfrm>
            <a:off x="203040" y="2187720"/>
            <a:ext cx="8677440" cy="27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685800" y="99072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Revised 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69C78-51FE-41F6-917F-792687A975A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884160" y="1749600"/>
            <a:ext cx="7156440" cy="4886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685800" y="99072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was our focus in Day 1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647640" y="1905120"/>
            <a:ext cx="775980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 looked at the ideas tha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en planning a lesson, you design backwards: focus in on a goal and plan your lesson around that goa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1D07C-4603-43D7-AB35-F2F1D3C76CB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3"/>
          <p:cNvSpPr/>
          <p:nvPr/>
        </p:nvSpPr>
        <p:spPr>
          <a:xfrm>
            <a:off x="990720" y="1905120"/>
            <a:ext cx="779436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goal for a lesson is created based on curriculum expectations, but filtered through the lens of big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685800" y="99072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was our focus in Day 1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29DCC-3997-456E-9A41-36A805EE907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3"/>
          <p:cNvSpPr/>
          <p:nvPr/>
        </p:nvSpPr>
        <p:spPr>
          <a:xfrm>
            <a:off x="576360" y="2057400"/>
            <a:ext cx="80992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(s) to consolidate the goal are essential and may inform other parts of the les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"/>
          <p:cNvSpPr/>
          <p:nvPr/>
        </p:nvSpPr>
        <p:spPr>
          <a:xfrm>
            <a:off x="685800" y="99072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was our focus in Day 1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B4374-0611-4E21-BBFE-B99EE37A863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3"/>
          <p:cNvSpPr/>
          <p:nvPr/>
        </p:nvSpPr>
        <p:spPr>
          <a:xfrm>
            <a:off x="684360" y="2057400"/>
            <a:ext cx="777384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sponses to consolidating question(s) are useful assessment for learning informati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685800" y="99072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was our focus in Day 1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6B05A-965D-4F40-B02B-70168F39FC4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3"/>
          <p:cNvSpPr/>
          <p:nvPr/>
        </p:nvSpPr>
        <p:spPr>
          <a:xfrm>
            <a:off x="914400" y="2103480"/>
            <a:ext cx="741672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onsolidation question(s) need to reflect the goal, whether the lesson is a concept-building lesson or a practice less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"/>
          <p:cNvSpPr/>
          <p:nvPr/>
        </p:nvSpPr>
        <p:spPr>
          <a:xfrm>
            <a:off x="685800" y="99072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was our focus in Day 1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78B12-B923-444B-AA04-0FBBE73F404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3"/>
          <p:cNvSpPr/>
          <p:nvPr/>
        </p:nvSpPr>
        <p:spPr>
          <a:xfrm>
            <a:off x="684360" y="1905120"/>
            <a:ext cx="7991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onsolidation question(s) is more than just “do another one”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685800" y="99072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was our focus in Day 1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8A1B9-87C2-48B2-91CF-BA91BA1E2CD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Now let’s change direction a bit</a:t>
            </a:r>
            <a:br>
              <a:rPr sz="4400"/>
            </a:b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98900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 have been focusing on the math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w let’s focus on the student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1C3D7-5843-4D8C-964D-174782AA62E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685800" y="99072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our Corners 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990720" y="1905120"/>
            <a:ext cx="741672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 to the corner for the View and Discuss between-session opportunity you took advantage of OR are most interested i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DB2FC-5B7B-4037-A31C-45D28930710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468360" y="99072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Thinking about differenti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755640" y="2060640"/>
            <a:ext cx="7956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et’s look at a problem we might plan to use to see how thinking about difficulties students might have could lead you to alter the problem or differentiate the tas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DF690-E63C-4896-9426-B8896104DD9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uppose this is the scenario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1066680" y="1828800"/>
            <a:ext cx="741708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4BADD-6CDA-413D-A08D-ADD4FDF0111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Picture 1.png"/>
          <p:cNvPicPr/>
          <p:nvPr/>
        </p:nvPicPr>
        <p:blipFill>
          <a:blip r:embed="rId1"/>
          <a:stretch/>
        </p:blipFill>
        <p:spPr>
          <a:xfrm>
            <a:off x="252360" y="2595600"/>
            <a:ext cx="9144000" cy="4181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uppose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684360" y="1828800"/>
            <a:ext cx="7799400" cy="65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want your students to solve this problem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randon and Alexis counted their money. Together, they had $7.50, but Brandon had $2.90 more than Alexi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D5211-EE07-45BE-9209-5D3D4E07876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3"/>
          <p:cNvSpPr/>
          <p:nvPr/>
        </p:nvSpPr>
        <p:spPr>
          <a:xfrm>
            <a:off x="1066680" y="1295280"/>
            <a:ext cx="7417080" cy="67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randon and Alexis counted their money. Together, they had $7.50, but Brandon had $2.90 more than Alex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) How much did each ha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) How do you know there are no other answe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C9F37-A01B-4067-B913-C6DE28F08A4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Let’s talk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1066680" y="1828800"/>
            <a:ext cx="741708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t’s make a “top 5” list of anticipated difficulti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3372F-10CE-461A-9509-C9B643EE012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1155600" y="9079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Look at one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539640" y="1746360"/>
            <a:ext cx="8317080" cy="81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ve a look at the hand-out showing one approach to dealing with a possible difficult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 pairs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uggest an alternate problem based on a possible difficult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048BA-642A-42EE-ACD1-52FE73CE77A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Let’s tal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1066680" y="2057400"/>
            <a:ext cx="7645680" cy="51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did your alternate problem address the difficult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E86D4-76D0-4FA1-B00D-1C55642B82B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685800" y="990720"/>
            <a:ext cx="7924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This approach might lead to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826920" y="2057400"/>
            <a:ext cx="765684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fferentiating instruction, maybe offering one problem to some students and another to other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ADC84-7698-4A2C-9F85-C457E68D11D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DI requi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990720" y="2133720"/>
            <a:ext cx="7416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ocus on big ideas (to have something big enough to differentiat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7C5B1-43A8-48CB-A765-BA634312FB8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DI requi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934920" y="2133720"/>
            <a:ext cx="7417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or assessment (to know the need and direction to differentiat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7913F-568F-49AE-A123-6F28526F4A8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685800" y="99072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our Corners 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990720" y="1905120"/>
            <a:ext cx="741672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hare some of your observations and/or thoughts with those from other boards in your corn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B530D-662F-4692-9B72-812BBB806A0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701640" y="990720"/>
            <a:ext cx="766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Anticipation Guide for Grade 8 Algeb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E62A8-E1C2-4423-907A-9C20ADBABC8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1760400" y="2771640"/>
            <a:ext cx="5562720" cy="3676680"/>
          </a:xfrm>
          <a:prstGeom prst="rect">
            <a:avLst/>
          </a:prstGeom>
          <a:ln w="0">
            <a:noFill/>
          </a:ln>
        </p:spPr>
      </p:pic>
      <p:sp>
        <p:nvSpPr>
          <p:cNvPr id="147" name="TextBox 4"/>
          <p:cNvSpPr/>
          <p:nvPr/>
        </p:nvSpPr>
        <p:spPr>
          <a:xfrm>
            <a:off x="228600" y="2590920"/>
            <a:ext cx="14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ree or disagree. Expl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701640" y="990720"/>
            <a:ext cx="766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Exit Card, Day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91761-1E46-4179-91FF-C199BAC537A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1760400" y="2114640"/>
            <a:ext cx="5524560" cy="4324320"/>
          </a:xfrm>
          <a:prstGeom prst="rect">
            <a:avLst/>
          </a:prstGeom>
          <a:ln w="0">
            <a:noFill/>
          </a:ln>
        </p:spPr>
      </p:pic>
      <p:sp>
        <p:nvSpPr>
          <p:cNvPr id="151" name="Rounded Rectangle 6"/>
          <p:cNvSpPr/>
          <p:nvPr/>
        </p:nvSpPr>
        <p:spPr>
          <a:xfrm>
            <a:off x="1760400" y="4159080"/>
            <a:ext cx="3724560" cy="584280"/>
          </a:xfrm>
          <a:prstGeom prst="roundRect">
            <a:avLst>
              <a:gd name="adj" fmla="val 16667"/>
            </a:avLst>
          </a:prstGeom>
          <a:solidFill>
            <a:srgbClr val="ffccff">
              <a:alpha val="40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DI requi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990720" y="2168640"/>
            <a:ext cx="741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oice (to actually differentiat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B3654-C279-47D3-8E3C-317EC3EC678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many of us do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990720" y="2023920"/>
            <a:ext cx="7416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onventional approach to differentiating is to scaffold-- presenting problems in bits. Maybe this is not the only or the best way, to differentiat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F2D78-B6EB-4A08-A933-BB49F8D6C5B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Our focus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826920" y="2023920"/>
            <a:ext cx="741708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ill be on two strategi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722C8-6E7E-4B56-A2C1-BE3ACC46D27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You’ve met th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792000" y="2097000"/>
            <a:ext cx="7417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member Day 1’s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open question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about creating a linear growing pattern beginning at -10 that grew slowl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33B81-588E-41FE-9665-86889A1BA31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You’ve met th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826920" y="2097000"/>
            <a:ext cx="7417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member Day 1’s task where you matched questions to big ideas but different groups used different 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6C113-CBA0-40F1-A4B5-BF3AF3C2940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3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Anticipated difficul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900000" y="2097000"/>
            <a:ext cx="7417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y anticipating the “difficulty” some grade 7-9 teachers might have with grade 11 or 12 content, we differentiated the task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7BA48-4949-4F01-AD56-429A6F420FB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5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In parallel tasks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826920" y="2168640"/>
            <a:ext cx="7417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 look at the same instructional goal, with the anticipated student difficulty addresse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7756D-2917-47A1-9CDC-0E854AA94BB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e coul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826920" y="2133720"/>
            <a:ext cx="7417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ok at your listing of alternative Brandon/Alexis question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may have already created parallel task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BE2A9-3750-44AE-90EE-C174DA50E2A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685800" y="99072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More sha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755640" y="2023920"/>
            <a:ext cx="76453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d you try out any goal setting/question writing activities related to our last session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hare what happened with a partn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7DF87-C48E-4DFE-BF0C-22CBF1B3F0E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All that’s miss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826920" y="2097000"/>
            <a:ext cx="7417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 how to handle the class when different students work on different tasks focused on the same goa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’ll address that now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4C0BC-2F76-43A7-8179-9295592AF66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6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An exampl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D639B-AF76-41EE-A30C-ADE1D899641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5" descr="Picture 2.png"/>
          <p:cNvPicPr/>
          <p:nvPr/>
        </p:nvPicPr>
        <p:blipFill>
          <a:blip r:embed="rId1"/>
          <a:stretch/>
        </p:blipFill>
        <p:spPr>
          <a:xfrm>
            <a:off x="108000" y="2133720"/>
            <a:ext cx="9144000" cy="3555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3"/>
          <p:cNvSpPr/>
          <p:nvPr/>
        </p:nvSpPr>
        <p:spPr>
          <a:xfrm>
            <a:off x="792000" y="1981080"/>
            <a:ext cx="7417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plan to ask: 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The slope of a line is -2/3. Tell us the coordinates of two points on the lin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3FA04-ABFC-4139-8949-71041A46717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You could anticipat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611280" y="2168640"/>
            <a:ext cx="783576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at some students may need more time with positive slopes before they are ready for problems involving negative slop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F3D80-6A7B-4AB8-8652-51009999D34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0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7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Looking at the goal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468360" y="3205080"/>
            <a:ext cx="8209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egative slopes are not really required. Students could address the goal using either positive or negative slop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41EEA-1311-4BF2-A58F-AF7AD77BC41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Picture 1.png"/>
          <p:cNvPicPr/>
          <p:nvPr/>
        </p:nvPicPr>
        <p:blipFill>
          <a:blip r:embed="rId1"/>
          <a:stretch/>
        </p:blipFill>
        <p:spPr>
          <a:xfrm>
            <a:off x="380880" y="2057400"/>
            <a:ext cx="8367840" cy="888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0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o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863640" y="2133720"/>
            <a:ext cx="74167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 create parallel tasks, offering choices accessible to more student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D77CD-E6ED-4843-8DF3-BDD1DFFEB42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1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Parallel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4876920" y="1901880"/>
            <a:ext cx="37335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line of slope 2/3 goes through (-4,-1).   Name two more points on the lin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762120" y="1828800"/>
            <a:ext cx="37335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line of slope -2/3 goes through (-4,-1).  Name two more points on the lin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35B6C-6908-4601-BE08-8A1EBCA667B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omm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762120" y="2149560"/>
            <a:ext cx="77724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 you know which way your line slants? How do you kn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FA064-A105-4E46-9D40-CE73EFF430A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0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0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omm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762120" y="2149560"/>
            <a:ext cx="802296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uld (-4, 3) be on your line? How do you kn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uld (-3, 0) be on your line? How do you kn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14ECC-3AB3-4F44-B1F7-28FEA2CAC23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0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2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omm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468360" y="2149560"/>
            <a:ext cx="831672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are your points and how did you get the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did many of you choose points with x-coordinates of   -1 and -7, but not -5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D7A56-59F3-4F5A-90EA-E245D5BCBE9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9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324000" y="990720"/>
            <a:ext cx="866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Responses to Sticky Note Pile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576360" y="2097000"/>
            <a:ext cx="820872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f you tried this activity, what was it connected to? (e.g. norms for collaborative group wor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at was the value to you, your students or fellow colleagu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w else could you use 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517D8-4637-4F0E-B33B-6F8B71CFAA5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Parallel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863640" y="2133720"/>
            <a:ext cx="7416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re useful particularly for the main instructional activity in a 3-part less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46DAF-1E4C-45A8-9BC6-897CCAC8F7A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0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The MATCH 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863640" y="2658960"/>
            <a:ext cx="741672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5" descr="Picture 1.png"/>
          <p:cNvPicPr/>
          <p:nvPr/>
        </p:nvPicPr>
        <p:blipFill>
          <a:blip r:embed="rId1"/>
          <a:stretch/>
        </p:blipFill>
        <p:spPr>
          <a:xfrm>
            <a:off x="1365120" y="2222640"/>
            <a:ext cx="1181160" cy="16002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Picture 2.png"/>
          <p:cNvPicPr/>
          <p:nvPr/>
        </p:nvPicPr>
        <p:blipFill>
          <a:blip r:embed="rId2"/>
          <a:stretch/>
        </p:blipFill>
        <p:spPr>
          <a:xfrm>
            <a:off x="1371600" y="3429000"/>
            <a:ext cx="1193760" cy="17524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Picture 3.png"/>
          <p:cNvPicPr/>
          <p:nvPr/>
        </p:nvPicPr>
        <p:blipFill>
          <a:blip r:embed="rId3"/>
          <a:stretch/>
        </p:blipFill>
        <p:spPr>
          <a:xfrm>
            <a:off x="1371600" y="4648320"/>
            <a:ext cx="1181160" cy="1930320"/>
          </a:xfrm>
          <a:prstGeom prst="rect">
            <a:avLst/>
          </a:prstGeom>
          <a:ln w="0">
            <a:noFill/>
          </a:ln>
        </p:spPr>
      </p:pic>
      <p:sp>
        <p:nvSpPr>
          <p:cNvPr id="215" name="Slide Number Placeholder 7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FE9A6-F13D-4AA7-824A-C797EF41EDE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0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8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Where you might use the previous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685800" y="2514600"/>
            <a:ext cx="7772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evious parallel task could have been the Action! if slope had just been introduce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CA42A-CB5A-4990-B2A2-82E59D08EE9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0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0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719280" y="990720"/>
            <a:ext cx="756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Where you might use th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685800" y="2133720"/>
            <a:ext cx="80265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y could have been the Minds On if students already had significant experience with slop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481A3-8FCE-4085-B6FC-6750F76CD09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0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Another examp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74E73-7853-49B0-ADC7-64D16C3C4F1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8" descr="Picture 1.png"/>
          <p:cNvPicPr/>
          <p:nvPr/>
        </p:nvPicPr>
        <p:blipFill>
          <a:blip r:embed="rId1"/>
          <a:stretch/>
        </p:blipFill>
        <p:spPr>
          <a:xfrm>
            <a:off x="144360" y="2276640"/>
            <a:ext cx="9144000" cy="3728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0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4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Original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684360" y="2384280"/>
            <a:ext cx="77724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had planned an activity where students would translate a series of algebraic expressions into words and vice-vers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8E707-4D59-42E1-8B17-EED557C2FE8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0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1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The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762120" y="2149560"/>
            <a:ext cx="7772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realized that some expressions may be much more difficult for students than other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F2CA7-1235-4402-B525-53A19DDE06B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0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3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o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762120" y="2149560"/>
            <a:ext cx="7772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want the more difficult ones addressed, but you need to build succes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6C4D6-55F3-4537-A13A-C627161B96D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0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5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The parallel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762120" y="2149560"/>
            <a:ext cx="761976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rite each of the three phrases as an algebraic expressi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48E23-DCDF-40AC-9B11-5621526A0BF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0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7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The parallel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503280" y="2023920"/>
            <a:ext cx="3960720" cy="46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hoice 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riple a nu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ubtract a number from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dd a number to it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DFF44-ED7A-4963-8C57-D7115F75A59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4680000" y="2019240"/>
            <a:ext cx="423540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hoice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dd 1 to a number and then doubl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ubtract a number from 10 and then divide by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riple a number, add 2 and then add 1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0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9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4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9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4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324000" y="990720"/>
            <a:ext cx="866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ticky Note Pileup Exemp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576360" y="209700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&lt;&lt;Insert Shirley’s picture(s) of sticky note pileup poster here&gt;&g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0607B-3BD2-4EA8-A98F-E79A38E1229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omm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762120" y="1905120"/>
            <a:ext cx="777240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operation signs appeared in your algebraic expression? Why tho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re there other ways to write your expression? Explai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F6E48-D530-4606-BDB5-6AAE80EC594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0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6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omm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762120" y="2149560"/>
            <a:ext cx="777240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d it matter which letter you used for your variable? Why or why no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ch was easiest for you? 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9C853-4B06-4D8A-A228-E72EDCBF025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0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3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omm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914400" y="1905120"/>
            <a:ext cx="7772400" cy="61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uld you have ended up with the same expression with slightly different word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might someone say it’s easier to use the algebraic expressions than the word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F3C89-9065-40AD-803E-1819C1AAA8A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0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0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F2269-158A-4E84-B998-92E8C433CD7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6" descr="Picture 3.png"/>
          <p:cNvPicPr/>
          <p:nvPr/>
        </p:nvPicPr>
        <p:blipFill>
          <a:blip r:embed="rId1"/>
          <a:stretch/>
        </p:blipFill>
        <p:spPr>
          <a:xfrm>
            <a:off x="181080" y="2330280"/>
            <a:ext cx="9144000" cy="387036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One mor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0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7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3"/>
          <p:cNvSpPr/>
          <p:nvPr/>
        </p:nvSpPr>
        <p:spPr>
          <a:xfrm>
            <a:off x="762120" y="2149560"/>
            <a:ext cx="7772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articular operation the student uses is irrelevant to the goa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1DD6E-2333-4509-971B-DCEDC6CE8A2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4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o the choices might b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684360" y="1909800"/>
            <a:ext cx="37735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 algebra tiles to model two polynomials that add to 6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+8x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4730760" y="1909800"/>
            <a:ext cx="36576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 algebra tiles to model two polynomials that multiply to 6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+8x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317F1-1690-4426-8119-C24E1DB02CF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0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1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6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1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ome comm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762120" y="1981080"/>
            <a:ext cx="7696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algebra tiles show 6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+8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 there any other way to model that polynomi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9080B-ABE9-4D31-8743-88984227E50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fill="hold">
                      <p:stCondLst>
                        <p:cond delay="0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8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3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8" dur="5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ome comm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762120" y="1981080"/>
            <a:ext cx="7696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did you arrange your til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 there any other way you could have arranged the tiles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C38C6-57EB-46E9-9578-789F4597FD1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5904000" y="5842080"/>
            <a:ext cx="2089080" cy="459720"/>
          </a:xfrm>
          <a:prstGeom prst="rect">
            <a:avLst/>
          </a:prstGeom>
          <a:solidFill>
            <a:srgbClr val="ff99c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irtual T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fill="hold">
                      <p:stCondLst>
                        <p:cond delay="0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5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5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ome comm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762120" y="1981080"/>
            <a:ext cx="7696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did you figure out how to star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BDF10-157D-4A95-8291-E53C675D4DE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fill="hold">
                      <p:stCondLst>
                        <p:cond delay="0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2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Your tu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762120" y="1752480"/>
            <a:ext cx="7696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 your group, choose one of the suggested set of parallel task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velop some common question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708F6-CAE0-46EF-9436-0C0A1A463C3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4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9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4" dur="5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0" y="990720"/>
            <a:ext cx="899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Responses to professional learning protocols 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503280" y="2724120"/>
            <a:ext cx="81723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 those of you who have been coached or been a coach, which of these protocols is one requiring more focus for you? Why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2C072-2BFB-4711-B58E-0ED88CBBC26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h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762120" y="1895400"/>
            <a:ext cx="7696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 to the one of the four corners for people who did your task. Share your questions with another group in your corn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F7909-426C-4FF1-9B81-382A6DF28B5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fill="hold">
                      <p:stCondLst>
                        <p:cond delay="0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1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6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762120" y="1996920"/>
            <a:ext cx="7696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t’s think about open question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ECA32-FD00-425B-BC18-DC9E10FE734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fill="hold">
                      <p:stCondLst>
                        <p:cond delay="0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3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8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4" descr="Picture 1.png"/>
          <p:cNvPicPr/>
          <p:nvPr/>
        </p:nvPicPr>
        <p:blipFill>
          <a:blip r:embed="rId1"/>
          <a:stretch/>
        </p:blipFill>
        <p:spPr>
          <a:xfrm>
            <a:off x="0" y="1349280"/>
            <a:ext cx="9144000" cy="4159440"/>
          </a:xfrm>
          <a:prstGeom prst="rect">
            <a:avLst/>
          </a:prstGeom>
          <a:ln w="0">
            <a:noFill/>
          </a:ln>
        </p:spPr>
      </p:pic>
      <p:sp>
        <p:nvSpPr>
          <p:cNvPr id="279" name="Slide Number Placeholder 3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D041C-79FB-4936-A664-1BF9783C1A8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Contr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990720" y="1981080"/>
            <a:ext cx="304776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Ope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cribe a relation… sort of like this on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5105520" y="1905120"/>
            <a:ext cx="304776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Not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Ope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type of relation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4836D-1F07-43DE-BA2A-FC43F3E965B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fill="hold">
                      <p:stCondLst>
                        <p:cond delay="0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5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0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5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0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5" dur="5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The underlying id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826920" y="2168640"/>
            <a:ext cx="7417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 which big idea do you think this question might relate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A65BD-1AE5-4670-8F6E-B9322E99D65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fill="hold">
                      <p:stCondLst>
                        <p:cond delay="0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2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7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Contr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990720" y="2209680"/>
            <a:ext cx="765000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Open: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graph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passes through the points (2,4) and (3,8).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escribe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lation the graph could represent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B7849-0047-43A3-B3AB-7D9C1F0C1E3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fill="hold">
                      <p:stCondLst>
                        <p:cond delay="0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4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9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3"/>
          <p:cNvSpPr/>
          <p:nvPr/>
        </p:nvSpPr>
        <p:spPr>
          <a:xfrm>
            <a:off x="1066680" y="2209680"/>
            <a:ext cx="7417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Not open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: A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line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passes through the points (2,4) and (3,8).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rite the equation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of the lin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EEC61-6FAD-4DF8-843B-11D2C861A16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00" dur="indefinite" restart="never" nodeType="tmRoot">
          <p:childTnLst>
            <p:seq>
              <p:cTn id="1001" dur="indefinite" nodeType="mainSeq">
                <p:childTnLst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6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made it op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1066680" y="2895480"/>
            <a:ext cx="741708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made the first question op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4E2AC-A261-462C-9785-E24592A359E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07" dur="indefinite" restart="never" nodeType="tmRoot">
          <p:childTnLst>
            <p:seq>
              <p:cTn id="1008" dur="indefinite" nodeType="mainSeq">
                <p:childTnLst>
                  <p:par>
                    <p:cTn id="1009" fill="hold">
                      <p:stCondLst>
                        <p:cond delay="0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3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8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Contr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990720" y="2057400"/>
            <a:ext cx="251460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Open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: Write an equation and solve i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4572000" y="1981080"/>
            <a:ext cx="419112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Less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Open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: Solve 3x-2 = 8.  Describe your strateg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B957A-DC6B-4D84-8FE4-4409186BA1B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0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5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0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5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2"/>
          <p:cNvSpPr/>
          <p:nvPr/>
        </p:nvSpPr>
        <p:spPr>
          <a:xfrm>
            <a:off x="1155600" y="990720"/>
            <a:ext cx="6769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Using open questions for assessment for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1066680" y="2895480"/>
            <a:ext cx="741708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open question, as a minds-on activity, provides valuable information about how to proceed with your less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4" descr="Picture 1.png"/>
          <p:cNvPicPr/>
          <p:nvPr/>
        </p:nvPicPr>
        <p:blipFill>
          <a:blip r:embed="rId1"/>
          <a:stretch/>
        </p:blipFill>
        <p:spPr>
          <a:xfrm>
            <a:off x="0" y="2629080"/>
            <a:ext cx="1181160" cy="1600200"/>
          </a:xfrm>
          <a:prstGeom prst="rect">
            <a:avLst/>
          </a:prstGeom>
          <a:ln w="0">
            <a:noFill/>
          </a:ln>
        </p:spPr>
      </p:pic>
      <p:sp>
        <p:nvSpPr>
          <p:cNvPr id="302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BA937-7625-4680-AB64-9856957C249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36" dur="indefinite" restart="never" nodeType="tmRoot">
          <p:childTnLst>
            <p:seq>
              <p:cTn id="1037" dur="indefinite" nodeType="mainSeq">
                <p:childTnLst>
                  <p:par>
                    <p:cTn id="1038" fill="hold">
                      <p:stCondLst>
                        <p:cond delay="0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2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7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Responding to Day 1 Question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533520" y="1712880"/>
            <a:ext cx="8229600" cy="457200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4"/>
          <p:cNvSpPr/>
          <p:nvPr/>
        </p:nvSpPr>
        <p:spPr>
          <a:xfrm>
            <a:off x="1981080" y="4056120"/>
            <a:ext cx="609840" cy="1219320"/>
          </a:xfrm>
          <a:prstGeom prst="upDownArrow">
            <a:avLst>
              <a:gd name="adj1" fmla="val 50000"/>
              <a:gd name="adj2" fmla="val 3980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5"/>
          <p:cNvSpPr/>
          <p:nvPr/>
        </p:nvSpPr>
        <p:spPr>
          <a:xfrm>
            <a:off x="4800600" y="4970520"/>
            <a:ext cx="1676520" cy="838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6"/>
          <p:cNvSpPr/>
          <p:nvPr/>
        </p:nvSpPr>
        <p:spPr>
          <a:xfrm>
            <a:off x="4876920" y="5808600"/>
            <a:ext cx="1295280" cy="533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3441960" y="630252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We’re list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3"/>
          <p:cNvSpPr/>
          <p:nvPr/>
        </p:nvSpPr>
        <p:spPr>
          <a:xfrm>
            <a:off x="900000" y="2023920"/>
            <a:ext cx="7417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t might tell you that there are missing prerequisites that will get in the wa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D4526-3412-4C05-B319-EA8CA34CD81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48" dur="indefinite" restart="never" nodeType="tmRoot">
          <p:childTnLst>
            <p:seq>
              <p:cTn id="1049" dur="indefinite" nodeType="mainSeq">
                <p:childTnLst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4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3"/>
          <p:cNvSpPr/>
          <p:nvPr/>
        </p:nvSpPr>
        <p:spPr>
          <a:xfrm>
            <a:off x="863640" y="1773360"/>
            <a:ext cx="741672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t might tell you that your students already know what you were planning to teach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46F06-8B8A-48CC-BD9B-8D21B88DFDE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55" dur="indefinite" restart="never" nodeType="tmRoot">
          <p:childTnLst>
            <p:seq>
              <p:cTn id="1056" dur="indefinite" nodeType="mainSeq">
                <p:childTnLst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1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3"/>
          <p:cNvSpPr/>
          <p:nvPr/>
        </p:nvSpPr>
        <p:spPr>
          <a:xfrm>
            <a:off x="792000" y="1592280"/>
            <a:ext cx="741708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t might tell you that your lesson is going in the right direction, but needs a few “tweaks”; recognizing what students have said could help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45D05-7F55-4B73-BF44-32D573648EA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62" dur="indefinite" restart="never" nodeType="tmRoot">
          <p:childTnLst>
            <p:seq>
              <p:cTn id="1063" dur="indefinite" nodeType="mainSeq">
                <p:childTnLst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8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2"/>
          <p:cNvSpPr/>
          <p:nvPr/>
        </p:nvSpPr>
        <p:spPr>
          <a:xfrm>
            <a:off x="503280" y="1096920"/>
            <a:ext cx="817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Comparing open questions and parallel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468360" y="2835360"/>
            <a:ext cx="835164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questions might be more vague than parallel task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metimes an open question can replace two parallel on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9B396-AA82-415E-87BA-9A17EAB1BED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fill="hold">
                      <p:stCondLst>
                        <p:cond delay="0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75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0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5" dur="5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or exampl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990720" y="2209680"/>
            <a:ext cx="7416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  the parallel task where we used a positive slope vs a negative one, we could have said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B3FEB-0DBB-4D15-A61B-D3B4A03E272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86" dur="indefinite" restart="never" nodeType="tmRoot">
          <p:childTnLst>
            <p:seq>
              <p:cTn id="1087" dur="indefinite" nodeType="mainSeq">
                <p:childTnLst>
                  <p:par>
                    <p:cTn id="1088" fill="hold">
                      <p:stCondLst>
                        <p:cond delay="0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2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7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or exampl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"/>
          <p:cNvSpPr/>
          <p:nvPr/>
        </p:nvSpPr>
        <p:spPr>
          <a:xfrm>
            <a:off x="755640" y="2209680"/>
            <a:ext cx="795672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line goes through (-4,-1). Choose its slop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nce you’ve chosen it, name another point on the line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5A9E6-AB85-4309-9C0D-8BE4289564E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fill="hold">
                      <p:stCondLst>
                        <p:cond delay="0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04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9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4" dur="5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3"/>
          <p:cNvSpPr/>
          <p:nvPr/>
        </p:nvSpPr>
        <p:spPr>
          <a:xfrm>
            <a:off x="503280" y="2057400"/>
            <a:ext cx="824544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pen questions can work in all three parts of a three-part less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arallel questions suit the Action! and perhaps Minds On, but not likely the Consolidate/Debrief where things are pulled toget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Where to use ope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F670F-6FFE-415D-AA6C-7B129BB2C29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15" dur="indefinite" restart="never" nodeType="tmRoot">
          <p:childTnLst>
            <p:seq>
              <p:cTn id="1116" dur="indefinite" nodeType="mainSeq">
                <p:childTnLst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1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6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 Box 3"/>
          <p:cNvSpPr/>
          <p:nvPr/>
        </p:nvSpPr>
        <p:spPr>
          <a:xfrm>
            <a:off x="1066680" y="2057400"/>
            <a:ext cx="731520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or example, a Minds On open question related to Big Idea 5 might be: Create two linear growing patterns that you think are really simil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Minds-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0C5D4-0916-4CA8-88BA-E3B3B05B5CE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4" descr="Picture 1.png"/>
          <p:cNvPicPr/>
          <p:nvPr/>
        </p:nvPicPr>
        <p:blipFill>
          <a:blip r:embed="rId1"/>
          <a:stretch/>
        </p:blipFill>
        <p:spPr>
          <a:xfrm>
            <a:off x="0" y="1523880"/>
            <a:ext cx="1181160" cy="1600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27" dur="indefinite" restart="never" nodeType="tmRoot">
          <p:childTnLst>
            <p:seq>
              <p:cTn id="1128" dur="indefinite" nodeType="mainSeq">
                <p:childTnLst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3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3"/>
          <p:cNvSpPr/>
          <p:nvPr/>
        </p:nvSpPr>
        <p:spPr>
          <a:xfrm>
            <a:off x="1066680" y="2057400"/>
            <a:ext cx="731520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ou could ask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makes them simil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are their pattern rules simil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Minds-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3D7F0-5186-4B97-820B-54FCD1D5D01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34" dur="indefinite" restart="never" nodeType="tmRoot">
          <p:childTnLst>
            <p:seq>
              <p:cTn id="1135" dur="indefinite" nodeType="mainSeq">
                <p:childTnLst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0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5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0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3"/>
          <p:cNvSpPr/>
          <p:nvPr/>
        </p:nvSpPr>
        <p:spPr>
          <a:xfrm>
            <a:off x="1066680" y="2057400"/>
            <a:ext cx="7315200" cy="31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or a lesson on linear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quation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You know that x + y = 5.  What else do you know about x and y?  (Related to BI6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Some 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8126A-FD68-4BC9-B3C3-6B0D287E3E7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4" descr="Picture 1.png"/>
          <p:cNvPicPr/>
          <p:nvPr/>
        </p:nvPicPr>
        <p:blipFill>
          <a:blip r:embed="rId1"/>
          <a:stretch/>
        </p:blipFill>
        <p:spPr>
          <a:xfrm>
            <a:off x="0" y="1523880"/>
            <a:ext cx="1181160" cy="1600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51" dur="indefinite" restart="never" nodeType="tmRoot">
          <p:childTnLst>
            <p:seq>
              <p:cTn id="1152" dur="indefinite" nodeType="mainSeq">
                <p:childTnLst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7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2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609480" y="1744560"/>
            <a:ext cx="7772400" cy="500724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5"/>
          <p:cNvSpPr/>
          <p:nvPr/>
        </p:nvSpPr>
        <p:spPr>
          <a:xfrm>
            <a:off x="4419720" y="4030560"/>
            <a:ext cx="2133360" cy="1143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6"/>
          <p:cNvSpPr/>
          <p:nvPr/>
        </p:nvSpPr>
        <p:spPr>
          <a:xfrm>
            <a:off x="4435560" y="5249880"/>
            <a:ext cx="1295280" cy="533520"/>
          </a:xfrm>
          <a:prstGeom prst="wedgeRoundRectCallout">
            <a:avLst>
              <a:gd name="adj1" fmla="val -79046"/>
              <a:gd name="adj2" fmla="val -6546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3044880" y="5173560"/>
            <a:ext cx="101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We’re 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list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8"/>
          <p:cNvSpPr/>
          <p:nvPr/>
        </p:nvSpPr>
        <p:spPr>
          <a:xfrm>
            <a:off x="4419720" y="5859360"/>
            <a:ext cx="3809880" cy="7621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Responding to Day 1 Question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For the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65D56-862F-4158-949D-635AECC3CD3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6" descr="Picture 2.png"/>
          <p:cNvPicPr/>
          <p:nvPr/>
        </p:nvPicPr>
        <p:blipFill>
          <a:blip r:embed="rId1"/>
          <a:stretch/>
        </p:blipFill>
        <p:spPr>
          <a:xfrm>
            <a:off x="762120" y="1905120"/>
            <a:ext cx="1193760" cy="1752480"/>
          </a:xfrm>
          <a:prstGeom prst="rect">
            <a:avLst/>
          </a:prstGeom>
          <a:ln w="0">
            <a:noFill/>
          </a:ln>
        </p:spPr>
      </p:pic>
      <p:sp>
        <p:nvSpPr>
          <p:cNvPr id="335" name="Rectangle 4"/>
          <p:cNvSpPr/>
          <p:nvPr/>
        </p:nvSpPr>
        <p:spPr>
          <a:xfrm>
            <a:off x="1981080" y="1981080"/>
            <a:ext cx="6705720" cy="45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oose two different values for the missing amounts. Make them different kinds of numbers: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x –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= 4 +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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aw a diagram or create a flow chart that would help someone understand how to solve your equation. (BI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3"/>
          <p:cNvSpPr/>
          <p:nvPr/>
        </p:nvSpPr>
        <p:spPr>
          <a:xfrm>
            <a:off x="1066680" y="2057400"/>
            <a:ext cx="7315200" cy="56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could this activity help the struggling stud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could it help the stronger stud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math is learn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An Open Actio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C252A-1AE7-4C40-B7D1-3D7E1FF041A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63" dur="indefinite" restart="never" nodeType="tmRoot">
          <p:childTnLst>
            <p:seq>
              <p:cTn id="1164" dur="indefinite" nodeType="mainSeq">
                <p:childTnLst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9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4" dur="5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9" dur="500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3"/>
          <p:cNvSpPr/>
          <p:nvPr/>
        </p:nvSpPr>
        <p:spPr>
          <a:xfrm>
            <a:off x="1066680" y="2057400"/>
            <a:ext cx="7315200" cy="46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 linear growing pattern has 50 as the 25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term. Create a bunch of possible patterns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does where your pattern starts relate to how fast it grows?  (BI 6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More action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D306C-5EA1-42EB-A095-B2DDAD414EA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6" descr="Picture 2.png"/>
          <p:cNvPicPr/>
          <p:nvPr/>
        </p:nvPicPr>
        <p:blipFill>
          <a:blip r:embed="rId1"/>
          <a:stretch/>
        </p:blipFill>
        <p:spPr>
          <a:xfrm>
            <a:off x="380880" y="1219320"/>
            <a:ext cx="1193760" cy="1523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80" dur="indefinite" restart="never" nodeType="tmRoot">
          <p:childTnLst>
            <p:seq>
              <p:cTn id="1181" dur="indefinite" nodeType="mainSeq">
                <p:childTnLst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6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1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6" descr="Picture 2.png"/>
          <p:cNvPicPr/>
          <p:nvPr/>
        </p:nvPicPr>
        <p:blipFill>
          <a:blip r:embed="rId1"/>
          <a:stretch/>
        </p:blipFill>
        <p:spPr>
          <a:xfrm>
            <a:off x="304920" y="838080"/>
            <a:ext cx="1193760" cy="190512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3"/>
          <p:cNvSpPr/>
          <p:nvPr/>
        </p:nvSpPr>
        <p:spPr>
          <a:xfrm>
            <a:off x="1066680" y="2057400"/>
            <a:ext cx="731520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wo lines intersect at (1,3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ne is much steeper than the oth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could the pair of lines be? Give several possibilities. (BI6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More Action!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80006-EFCA-4792-9FFC-1C1BD3A718F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92" dur="indefinite" restart="never" nodeType="tmRoot">
          <p:childTnLst>
            <p:seq>
              <p:cTn id="1193" dur="indefinite" nodeType="mainSeq">
                <p:childTnLst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8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3" dur="5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8" dur="5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7" descr="Picture 3.png"/>
          <p:cNvPicPr/>
          <p:nvPr/>
        </p:nvPicPr>
        <p:blipFill>
          <a:blip r:embed="rId1"/>
          <a:stretch/>
        </p:blipFill>
        <p:spPr>
          <a:xfrm>
            <a:off x="152280" y="1219320"/>
            <a:ext cx="1181160" cy="1930320"/>
          </a:xfrm>
          <a:prstGeom prst="rect">
            <a:avLst/>
          </a:prstGeom>
          <a:ln w="0">
            <a:noFill/>
          </a:ln>
        </p:spPr>
      </p:pic>
      <p:sp>
        <p:nvSpPr>
          <p:cNvPr id="348" name="Text Box 3"/>
          <p:cNvSpPr/>
          <p:nvPr/>
        </p:nvSpPr>
        <p:spPr>
          <a:xfrm>
            <a:off x="1066680" y="2057400"/>
            <a:ext cx="7315200" cy="53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pen questions are also very appropriate for consolida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e saw many of these in our last sess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Consolidati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4C311-1A0E-461A-BAD9-BA4F2B10F96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09" dur="indefinite" restart="never" nodeType="tmRoot">
          <p:childTnLst>
            <p:seq>
              <p:cTn id="1210" dur="indefinite" nodeType="mainSeq">
                <p:childTnLst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5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0" dur="5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3"/>
          <p:cNvSpPr/>
          <p:nvPr/>
        </p:nvSpPr>
        <p:spPr>
          <a:xfrm>
            <a:off x="1066680" y="2057400"/>
            <a:ext cx="731520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magine that students have learned about the meaning of linear equations, e.g. what    4x – 2 = 9 mea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980AE-9FE8-4F61-8A49-2C2707CFFF8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21" dur="indefinite" restart="never" nodeType="tmRoot">
          <p:childTnLst>
            <p:seq>
              <p:cTn id="1222" dur="indefinite" nodeType="mainSeq">
                <p:childTnLst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7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7" descr="Picture 3.png"/>
          <p:cNvPicPr/>
          <p:nvPr/>
        </p:nvPicPr>
        <p:blipFill>
          <a:blip r:embed="rId1"/>
          <a:stretch/>
        </p:blipFill>
        <p:spPr>
          <a:xfrm>
            <a:off x="457200" y="1066680"/>
            <a:ext cx="1181160" cy="193068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3"/>
          <p:cNvSpPr/>
          <p:nvPr/>
        </p:nvSpPr>
        <p:spPr>
          <a:xfrm>
            <a:off x="1066680" y="2057400"/>
            <a:ext cx="731520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are these equations alike and different? (BI 5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x – 2 = 6 + 9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x – 2 = 6 + 9x – 6x -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You might ask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7E0CD-2157-47FF-AD12-9B1CC2B9F05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28" dur="indefinite" restart="never" nodeType="tmRoot">
          <p:childTnLst>
            <p:seq>
              <p:cTn id="1229" dur="indefinite" nodeType="mainSeq">
                <p:childTnLst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4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9" dur="5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4" dur="5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7" descr="Picture 3.png"/>
          <p:cNvPicPr/>
          <p:nvPr/>
        </p:nvPicPr>
        <p:blipFill>
          <a:blip r:embed="rId1"/>
          <a:stretch/>
        </p:blipFill>
        <p:spPr>
          <a:xfrm>
            <a:off x="457200" y="1143000"/>
            <a:ext cx="1181160" cy="1930320"/>
          </a:xfrm>
          <a:prstGeom prst="rect">
            <a:avLst/>
          </a:prstGeom>
          <a:ln w="0">
            <a:noFill/>
          </a:ln>
        </p:spPr>
      </p:pic>
      <p:sp>
        <p:nvSpPr>
          <p:cNvPr id="358" name="Text Box 3"/>
          <p:cNvSpPr/>
          <p:nvPr/>
        </p:nvSpPr>
        <p:spPr>
          <a:xfrm>
            <a:off x="1066680" y="2057400"/>
            <a:ext cx="7315200" cy="49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ne parabola is very narrow and one parabola is very wid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do you know or what don’t you know about how their equations differ? (BI 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2129D-65FB-4900-80D3-B623BF84B01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45" dur="indefinite" restart="never" nodeType="tmRoot">
          <p:childTnLst>
            <p:seq>
              <p:cTn id="1246" dur="indefinite" nodeType="mainSeq">
                <p:childTnLst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1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6" dur="5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3"/>
          <p:cNvSpPr/>
          <p:nvPr/>
        </p:nvSpPr>
        <p:spPr>
          <a:xfrm>
            <a:off x="884160" y="1895400"/>
            <a:ext cx="781380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You will be given a set of open questions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ork with a partn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n which part of a 3-part lesson would you consider using each question?  Justify your choice using the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Convince Me!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c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Matching 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2ABE5-8C9E-4219-99A0-E4699F76717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57" dur="indefinite" restart="never" nodeType="tmRoot">
          <p:childTnLst>
            <p:seq>
              <p:cTn id="1258" dur="indefinite" nodeType="mainSeq">
                <p:childTnLst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3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8" dur="5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3" dur="5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 Box 3"/>
          <p:cNvSpPr/>
          <p:nvPr/>
        </p:nvSpPr>
        <p:spPr>
          <a:xfrm>
            <a:off x="884160" y="1895400"/>
            <a:ext cx="78138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hare with another pai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Matching 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0619F-583E-4F59-805E-71A8473442E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74" dur="indefinite" restart="never" nodeType="tmRoot">
          <p:childTnLst>
            <p:seq>
              <p:cTn id="1275" dur="indefinite" nodeType="mainSeq">
                <p:childTnLst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0" dur="5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9T03:56:47Z</dcterms:created>
  <dc:creator>PSteele</dc:creator>
  <dc:description/>
  <dc:language>en-US</dc:language>
  <cp:lastModifiedBy>Marian Small</cp:lastModifiedBy>
  <dcterms:modified xsi:type="dcterms:W3CDTF">2009-10-29T04:16:04Z</dcterms:modified>
  <cp:revision>417</cp:revision>
  <dc:subject/>
  <dc:title>Slide 1</dc:title>
</cp:coreProperties>
</file>